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232-40E7-43BC-B509-D710B45B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625-86C3-48D8-86F3-37CE1F8A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425-9C67-4E8E-BF73-C2503CFE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0DC-96F9-45C5-92C1-2B69FB28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BA4-B657-492D-AD48-5EE1F311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908-71C7-4319-8F57-3D271000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EC8-747E-4B88-B402-B8DEC51D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F6C-4607-45C7-97F8-A23F6DA2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0BA-E748-4F3D-BC0A-5AD9E518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A5C-A1D0-4613-8022-C4E06465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65A-60C7-4588-9F6B-B2550169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012-79D2-4155-A6A6-6DA5A0A8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EFA6-149C-420C-A60F-F62BD11D8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981000"/>
          <a:ext cx="2303280" cy="3764160"/>
        </p:xfrm>
        <a:graphic>
          <a:graphicData uri="http://schemas.openxmlformats.org/drawingml/2006/table">
            <a:tbl>
              <a:tblPr/>
              <a:tblGrid>
                <a:gridCol w="503280"/>
                <a:gridCol w="360360"/>
                <a:gridCol w="287280"/>
                <a:gridCol w="431640"/>
                <a:gridCol w="289080"/>
                <a:gridCol w="431640"/>
              </a:tblGrid>
              <a:tr h="33660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me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8480">
                <a:tc rowSpan="20">
                  <a:txBody>
                    <a:bodyPr lIns="18000" rIns="18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HISTÓRIC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01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-04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-07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-10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04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-07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-10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01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-04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07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-10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04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07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10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-06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-10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04292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alores Hist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83664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59280" y="981000"/>
          <a:ext cx="2592360" cy="1943280"/>
        </p:xfrm>
        <a:graphic>
          <a:graphicData uri="http://schemas.openxmlformats.org/drawingml/2006/table">
            <a:tbl>
              <a:tblPr/>
              <a:tblGrid>
                <a:gridCol w="505080"/>
                <a:gridCol w="576000"/>
                <a:gridCol w="503280"/>
                <a:gridCol w="504720"/>
                <a:gridCol w="503280"/>
              </a:tblGrid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A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O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IE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.Est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16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 m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m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059280" y="32846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o de índice de estaci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84720" y="981000"/>
          <a:ext cx="622080" cy="3500640"/>
        </p:xfrm>
        <a:graphic>
          <a:graphicData uri="http://schemas.openxmlformats.org/drawingml/2006/table">
            <a:tbl>
              <a:tblPr/>
              <a:tblGrid>
                <a:gridCol w="622080"/>
              </a:tblGrid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 s/es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9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0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1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4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9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2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87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8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24360" y="33336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alores Históricos sin estaci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206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249228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356000" y="242100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92360" y="836640"/>
          <a:ext cx="1841400" cy="5268960"/>
        </p:xfrm>
        <a:graphic>
          <a:graphicData uri="http://schemas.openxmlformats.org/drawingml/2006/table">
            <a:tbl>
              <a:tblPr/>
              <a:tblGrid>
                <a:gridCol w="330120"/>
                <a:gridCol w="432000"/>
                <a:gridCol w="287280"/>
                <a:gridCol w="288720"/>
                <a:gridCol w="503280"/>
              </a:tblGrid>
              <a:tr h="11232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CIÓN NORM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12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E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CIÓN PLANE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9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6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20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CIÓN PLANES DESCONTAMINACIÓN / PRVENCIÓ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6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780000" y="404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alores Proyectados Sin Esta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51280" y="69228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3640" y="836640"/>
          <a:ext cx="525600" cy="5184360"/>
        </p:xfrm>
        <a:graphic>
          <a:graphicData uri="http://schemas.openxmlformats.org/drawingml/2006/table">
            <a:tbl>
              <a:tblPr/>
              <a:tblGrid>
                <a:gridCol w="525600"/>
              </a:tblGrid>
              <a:tr h="117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4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3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7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8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9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4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635280" y="386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85264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es Proyectados Con Esta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1844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X Coeficiente     Estacionalida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1341360"/>
            <a:ext cx="144360" cy="136692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17733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álculo de Percentil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940360" y="3357720"/>
          <a:ext cx="504720" cy="276696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14256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 Norm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04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9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77080" y="3357720"/>
          <a:ext cx="503280" cy="280656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18828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cia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ámetr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4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2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7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4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78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3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4653000"/>
            <a:ext cx="215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4653000"/>
            <a:ext cx="21600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4:26:58Z</dcterms:created>
  <dc:creator>Jorge Ortiz</dc:creator>
  <dc:description/>
  <dc:language>en-US</dc:language>
  <cp:lastModifiedBy>Jorge Ortiz</cp:lastModifiedBy>
  <dcterms:modified xsi:type="dcterms:W3CDTF">2005-12-08T20:09:56Z</dcterms:modified>
  <cp:revision>7</cp:revision>
  <dc:subject/>
  <dc:title>Diapositiva 1</dc:title>
</cp:coreProperties>
</file>